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73C-FAA6-4002-80EE-556229A9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96F-9CE8-4D2E-9231-80F03FE1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13F-6924-4F15-99B6-868CE5C9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55C-F3F5-4AB8-9408-0240F51B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A86-E1BA-425A-A9ED-531D63E2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A9E-C0B3-47E4-83EB-F879FF3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0CE-CADD-45F6-96DE-87D9A64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9FC-C295-4429-9532-A5DFC2E3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76C-14E0-487E-B196-D3FAC3B9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8F0-66E7-481E-A7E5-AEEF318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A16-842B-4E5A-A1B9-154D53BF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B03-7936-405F-9813-2966B36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839B-AC47-4E7D-A68A-3F303FEE4FE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4B37-8C09-40AD-8F97-5735F5010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nke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n executive function task, a bit similar to Str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each slide, you will see three arrows. You have to raise your hand matching the direction of the MIDDLE arrow. If the middle arrow is “&gt;”, raise your right hand. If the middle arrow is “&lt;“, raise your left hand. Ignore the other arro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4DCB-7A47-46F0-95DC-A9223B2A8E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1B5C-27E4-4DC0-AF3A-8C17E04C69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lt;&gt;&l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D743-E2FD-4231-8F9E-A6406D20B39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2BF5-D385-4195-82B2-D6360E5A5F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lt;&lt;&l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86D0-3A31-4ED9-A711-213970607B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D54-549A-4938-859C-D4FB23CB20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gt;&gt;&g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A716-B8E3-4BA7-8088-613A360850D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D0EB-8E61-4260-9D9F-9E8B621870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lt;&gt;&l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9331-4EDF-4776-926F-D622584852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052A-2581-464F-B5BE-6C2992DD08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lt;&gt;&l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87C1-E0A5-4A24-8391-1EC2B94DE3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nker task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al experiment, you would be pressing the left and right buttons, rather than raising your left and right h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Stroop, there are many ways this can be scored. You can compare how fast people press the button when there are congruent versus incongruent arrows on the sides, and/or you can check how many mistakes they m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96AD-B5F0-4747-A822-8ADB835803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E640-F09F-48A3-839F-77E763CF7F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gt;&gt;&g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8ED6-0C8B-4667-A314-E183F798F3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28FE-9807-407A-B8B2-0C4635F1E5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gt;&lt;&g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FE34-11B0-4044-ACC0-8214F615EE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EF32-DB22-4C40-A8CD-A642BF7D84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lt;&gt;&l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398F-4E06-4C3E-A717-E0940BDDC5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gt;&gt;&g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E052-8ED4-4BD4-8A3F-BADB04A7ED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81DB-CF97-481D-B52D-D3A1D4985B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lt;&gt;&l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A324-1EED-42C9-994F-8ADEA44DA2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9428-2299-4534-92D4-BD7306380A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lt;&gt;&l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6EFF-E42D-41CC-A530-18D49E8402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CA54-5DDA-4943-A89E-81C5CF313B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&lt;&lt;&lt;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FFD6-8A09-4185-BD1C-A2E640AFE4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0:15:24Z</dcterms:created>
  <dc:creator>lingadmin</dc:creator>
  <dc:description/>
  <dc:language>en-US</dc:language>
  <cp:lastModifiedBy>Stephen Politzer-Ahles</cp:lastModifiedBy>
  <dcterms:modified xsi:type="dcterms:W3CDTF">2020-02-12T04:24:29Z</dcterms:modified>
  <cp:revision>279</cp:revision>
  <dc:subject/>
  <dc:title>How does the brain understand what people mean (when they don't say it)?</dc:title>
</cp:coreProperties>
</file>