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C4A05-B7B8-497F-8B27-1E9A06F75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6EB07-6A79-4636-BD72-17B374C8B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83EEB-4A7A-4B94-8167-1C9553FCA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E5C8D-9375-41DD-9A7F-86BDDEFE0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91A80-2A92-4263-A3A9-71D9E32FA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6D9A9-15A1-401B-B3EF-65D99C084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EB646-B742-4303-B5EF-9DB251350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E4A2F-B7FD-44D8-99A1-D5775B8A0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67AAB-1DDC-42FE-9040-1E38BA705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847A3-710E-4C06-BA03-6ADB854EB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029DD-8EFD-41B9-99E4-914332FB6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C2FBC-8697-42C2-8749-1FAB7FEA8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FB76D-ADD3-40B5-B9BE-7A3642EE2C6F}" type="datetime">
              <a:rPr b="0" lang="en-US" sz="1200" spc="-1" strike="noStrike">
                <a:solidFill>
                  <a:srgbClr val="898989"/>
                </a:solidFill>
                <a:latin typeface="Calibri"/>
                <a:ea typeface="新細明體"/>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99A55-5DFD-4BF7-8333-CBCB4B5F0D1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mension change card sort</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This task is pretty easy and is typically used for young children. For adults it’s too easy and they’ll always do well on it. But young kids (maybe around 3-4 years old) often fail i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ll see shapes. If they’re hearts, raise your right hand; stars, raise your left hand. (When doing this with kids, we often use real, physical cards they can hold and put into pile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D53C2-5C14-4A03-AA95-6AAD4AF5D408}" type="slidenum">
              <a:rPr b="0" lang="en-US" sz="1200" spc="-1" strike="noStrike">
                <a:solidFill>
                  <a:srgbClr val="898989"/>
                </a:solidFill>
                <a:latin typeface="Calibri"/>
                <a:ea typeface="Arial"/>
              </a:rPr>
              <a:t>1</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mension change card sort (continued)</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Halfway through the task, the sorting rule will change. Instead of sorting based on shape (heart vs. star), you will have to start sorting based on color (red vs. b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ids often fail this task (they don’t change their pattern after the sorting rule fails). Adults have no problem with it, but they might still get slower after the rule 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D0B4-90E6-42DB-9FEA-FFBACB5D16E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6635880"/>
                <a:tab algn="l" pos="7315200"/>
                <a:tab algn="l" pos="8229600"/>
                <a:tab algn="l" pos="9144000"/>
                <a:tab algn="l" pos="10058400"/>
              </a:tabLst>
            </a:pPr>
            <a:r>
              <a:rPr b="0" lang="en-HK" sz="3200" spc="-1" strike="noStrike">
                <a:solidFill>
                  <a:srgbClr val="000000"/>
                </a:solidFill>
                <a:latin typeface="Calibri"/>
              </a:rPr>
              <a:t>STARS</a:t>
            </a:r>
            <a:r>
              <a:rPr b="0" lang="en-HK" sz="3200" spc="-1" strike="noStrike">
                <a:solidFill>
                  <a:srgbClr val="000000"/>
                </a:solidFill>
                <a:latin typeface="Calibri"/>
              </a:rPr>
              <a:t>	</a:t>
            </a:r>
            <a:r>
              <a:rPr b="0" lang="en-HK" sz="3200" spc="-1" strike="noStrike">
                <a:solidFill>
                  <a:srgbClr val="000000"/>
                </a:solidFill>
                <a:latin typeface="Calibri"/>
              </a:rPr>
              <a:t>HEARTS</a:t>
            </a:r>
            <a:endParaRPr b="0" lang="en-US" sz="3200" spc="-1" strike="noStrike">
              <a:solidFill>
                <a:srgbClr val="000000"/>
              </a:solidFill>
              <a:latin typeface="Calibri"/>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4400" spc="-1" strike="noStrike">
                <a:solidFill>
                  <a:srgbClr val="000000"/>
                </a:solidFill>
                <a:latin typeface="Calibri"/>
              </a:rPr>
              <a:t>Dimension Change Card Sort</a:t>
            </a:r>
            <a:endParaRPr b="0" lang="en-US" sz="4400" spc="-1" strike="noStrike">
              <a:solidFill>
                <a:srgbClr val="000000"/>
              </a:solidFill>
              <a:latin typeface="Calibri"/>
            </a:endParaRPr>
          </a:p>
        </p:txBody>
      </p:sp>
      <p:sp>
        <p:nvSpPr>
          <p:cNvPr id="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4629-5BBB-4744-8BD1-96261426554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grpSp>
        <p:nvGrpSpPr>
          <p:cNvPr id="50" name="Group 8"/>
          <p:cNvGrpSpPr/>
          <p:nvPr/>
        </p:nvGrpSpPr>
        <p:grpSpPr>
          <a:xfrm>
            <a:off x="3200400" y="2514600"/>
            <a:ext cx="2971800" cy="2971800"/>
            <a:chOff x="3200400" y="2514600"/>
            <a:chExt cx="2971800" cy="2971800"/>
          </a:xfrm>
        </p:grpSpPr>
        <p:sp>
          <p:nvSpPr>
            <p:cNvPr id="51" name="Rectangle 7"/>
            <p:cNvSpPr/>
            <p:nvPr/>
          </p:nvSpPr>
          <p:spPr>
            <a:xfrm>
              <a:off x="3200400" y="2514600"/>
              <a:ext cx="2971800" cy="2971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5-Point Star 4"/>
            <p:cNvSpPr/>
            <p:nvPr/>
          </p:nvSpPr>
          <p:spPr>
            <a:xfrm>
              <a:off x="3200400" y="2514600"/>
              <a:ext cx="2971800" cy="2971800"/>
            </a:xfrm>
            <a:custGeom>
              <a:avLst/>
              <a:gdLst/>
              <a:ahLst/>
              <a:rect l="l" t="t" r="r" b="b"/>
              <a:pathLst>
                <a:path w="2971800" h="2971800">
                  <a:moveTo>
                    <a:pt x="3" y="1135124"/>
                  </a:moveTo>
                  <a:lnTo>
                    <a:pt x="1135133" y="1135132"/>
                  </a:lnTo>
                  <a:lnTo>
                    <a:pt x="1485900" y="0"/>
                  </a:lnTo>
                  <a:lnTo>
                    <a:pt x="1836667" y="1135132"/>
                  </a:lnTo>
                  <a:lnTo>
                    <a:pt x="2971797" y="1135124"/>
                  </a:lnTo>
                  <a:lnTo>
                    <a:pt x="2053453" y="1836666"/>
                  </a:lnTo>
                  <a:lnTo>
                    <a:pt x="2404235" y="2971792"/>
                  </a:lnTo>
                  <a:lnTo>
                    <a:pt x="1485900" y="2270238"/>
                  </a:lnTo>
                  <a:lnTo>
                    <a:pt x="567565" y="2971792"/>
                  </a:lnTo>
                  <a:lnTo>
                    <a:pt x="918347" y="1836666"/>
                  </a:lnTo>
                  <a:lnTo>
                    <a:pt x="3" y="1135124"/>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53" name="Group 12"/>
          <p:cNvGrpSpPr/>
          <p:nvPr/>
        </p:nvGrpSpPr>
        <p:grpSpPr>
          <a:xfrm>
            <a:off x="2743200" y="2378160"/>
            <a:ext cx="3505320" cy="3504960"/>
            <a:chOff x="2743200" y="2378160"/>
            <a:chExt cx="3505320" cy="3504960"/>
          </a:xfrm>
        </p:grpSpPr>
        <p:sp>
          <p:nvSpPr>
            <p:cNvPr id="54" name="Rectangle 10"/>
            <p:cNvSpPr/>
            <p:nvPr/>
          </p:nvSpPr>
          <p:spPr>
            <a:xfrm>
              <a:off x="2743200" y="2378160"/>
              <a:ext cx="3505320" cy="3504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Heart 11"/>
            <p:cNvSpPr/>
            <p:nvPr/>
          </p:nvSpPr>
          <p:spPr>
            <a:xfrm>
              <a:off x="3143160" y="2606760"/>
              <a:ext cx="2972160" cy="3047760"/>
            </a:xfrm>
            <a:custGeom>
              <a:avLst/>
              <a:gdLst/>
              <a:ahLst/>
              <a:rect l="l" t="t" r="r" b="b"/>
              <a:pathLst>
                <a:path w="2971800" h="3048000">
                  <a:moveTo>
                    <a:pt x="1485900" y="762000"/>
                  </a:moveTo>
                  <a:cubicBezTo>
                    <a:pt x="2105025" y="-1016000"/>
                    <a:pt x="4519613" y="762000"/>
                    <a:pt x="1485900" y="3048000"/>
                  </a:cubicBezTo>
                  <a:cubicBezTo>
                    <a:pt x="-1547813" y="762000"/>
                    <a:pt x="866775" y="-1016000"/>
                    <a:pt x="1485900" y="762000"/>
                  </a:cubicBez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56" name="Group 16"/>
          <p:cNvGrpSpPr/>
          <p:nvPr/>
        </p:nvGrpSpPr>
        <p:grpSpPr>
          <a:xfrm>
            <a:off x="2666880" y="2438280"/>
            <a:ext cx="3505320" cy="3276720"/>
            <a:chOff x="2666880" y="2438280"/>
            <a:chExt cx="3505320" cy="3276720"/>
          </a:xfrm>
        </p:grpSpPr>
        <p:sp>
          <p:nvSpPr>
            <p:cNvPr id="57" name="Rectangle 17"/>
            <p:cNvSpPr/>
            <p:nvPr/>
          </p:nvSpPr>
          <p:spPr>
            <a:xfrm>
              <a:off x="2666880" y="2438280"/>
              <a:ext cx="3505320" cy="327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5-Point Star 18"/>
            <p:cNvSpPr/>
            <p:nvPr/>
          </p:nvSpPr>
          <p:spPr>
            <a:xfrm>
              <a:off x="2971440" y="2628720"/>
              <a:ext cx="2895840" cy="2926080"/>
            </a:xfrm>
            <a:custGeom>
              <a:avLst/>
              <a:gdLst/>
              <a:ahLst/>
              <a:rect l="l" t="t" r="r" b="b"/>
              <a:pathLst>
                <a:path w="2895600" h="2925763">
                  <a:moveTo>
                    <a:pt x="3" y="1117539"/>
                  </a:moveTo>
                  <a:lnTo>
                    <a:pt x="1106027" y="1117547"/>
                  </a:lnTo>
                  <a:lnTo>
                    <a:pt x="1447800" y="0"/>
                  </a:lnTo>
                  <a:lnTo>
                    <a:pt x="1789573" y="1117547"/>
                  </a:lnTo>
                  <a:lnTo>
                    <a:pt x="2895597" y="1117539"/>
                  </a:lnTo>
                  <a:lnTo>
                    <a:pt x="2000801" y="1808213"/>
                  </a:lnTo>
                  <a:lnTo>
                    <a:pt x="2342588" y="2925756"/>
                  </a:lnTo>
                  <a:lnTo>
                    <a:pt x="1447800" y="2235069"/>
                  </a:lnTo>
                  <a:lnTo>
                    <a:pt x="553012" y="2925756"/>
                  </a:lnTo>
                  <a:lnTo>
                    <a:pt x="894799" y="1808213"/>
                  </a:lnTo>
                  <a:lnTo>
                    <a:pt x="3" y="1117539"/>
                  </a:lnTo>
                  <a:close/>
                </a:path>
              </a:pathLst>
            </a:custGeom>
            <a:solidFill>
              <a:srgbClr val="0000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59" name="Group 19"/>
          <p:cNvGrpSpPr/>
          <p:nvPr/>
        </p:nvGrpSpPr>
        <p:grpSpPr>
          <a:xfrm>
            <a:off x="2638440" y="2460600"/>
            <a:ext cx="3505320" cy="3505320"/>
            <a:chOff x="2638440" y="2460600"/>
            <a:chExt cx="3505320" cy="3505320"/>
          </a:xfrm>
        </p:grpSpPr>
        <p:sp>
          <p:nvSpPr>
            <p:cNvPr id="60" name="Rectangle 20"/>
            <p:cNvSpPr/>
            <p:nvPr/>
          </p:nvSpPr>
          <p:spPr>
            <a:xfrm>
              <a:off x="2638440" y="2460600"/>
              <a:ext cx="3505320" cy="350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Heart 21"/>
            <p:cNvSpPr/>
            <p:nvPr/>
          </p:nvSpPr>
          <p:spPr>
            <a:xfrm>
              <a:off x="3038400" y="2689200"/>
              <a:ext cx="2972160" cy="3048120"/>
            </a:xfrm>
            <a:custGeom>
              <a:avLst/>
              <a:gdLst/>
              <a:ahLst/>
              <a:rect l="l" t="t" r="r" b="b"/>
              <a:pathLst>
                <a:path w="2971800" h="3048000">
                  <a:moveTo>
                    <a:pt x="1485900" y="762000"/>
                  </a:moveTo>
                  <a:cubicBezTo>
                    <a:pt x="2105025" y="-1016000"/>
                    <a:pt x="4519613" y="762000"/>
                    <a:pt x="1485900" y="3048000"/>
                  </a:cubicBezTo>
                  <a:cubicBezTo>
                    <a:pt x="-1547813" y="762000"/>
                    <a:pt x="866775" y="-1016000"/>
                    <a:pt x="1485900" y="762000"/>
                  </a:cubicBezTo>
                  <a:close/>
                </a:path>
              </a:pathLst>
            </a:custGeom>
            <a:solidFill>
              <a:srgbClr val="0000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62" name="Group 22"/>
          <p:cNvGrpSpPr/>
          <p:nvPr/>
        </p:nvGrpSpPr>
        <p:grpSpPr>
          <a:xfrm>
            <a:off x="2562120" y="2378160"/>
            <a:ext cx="3505320" cy="3504960"/>
            <a:chOff x="2562120" y="2378160"/>
            <a:chExt cx="3505320" cy="3504960"/>
          </a:xfrm>
        </p:grpSpPr>
        <p:sp>
          <p:nvSpPr>
            <p:cNvPr id="63" name="Rectangle 23"/>
            <p:cNvSpPr/>
            <p:nvPr/>
          </p:nvSpPr>
          <p:spPr>
            <a:xfrm>
              <a:off x="2562120" y="2378160"/>
              <a:ext cx="3505320" cy="3504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Heart 24"/>
            <p:cNvSpPr/>
            <p:nvPr/>
          </p:nvSpPr>
          <p:spPr>
            <a:xfrm>
              <a:off x="2962080" y="2606760"/>
              <a:ext cx="2972160" cy="3047760"/>
            </a:xfrm>
            <a:custGeom>
              <a:avLst/>
              <a:gdLst/>
              <a:ahLst/>
              <a:rect l="l" t="t" r="r" b="b"/>
              <a:pathLst>
                <a:path w="2971800" h="3048000">
                  <a:moveTo>
                    <a:pt x="1485900" y="762000"/>
                  </a:moveTo>
                  <a:cubicBezTo>
                    <a:pt x="2105025" y="-1016000"/>
                    <a:pt x="4519613" y="762000"/>
                    <a:pt x="1485900" y="3048000"/>
                  </a:cubicBezTo>
                  <a:cubicBezTo>
                    <a:pt x="-1547813" y="762000"/>
                    <a:pt x="866775" y="-1016000"/>
                    <a:pt x="1485900" y="762000"/>
                  </a:cubicBez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65" name="Group 25"/>
          <p:cNvGrpSpPr/>
          <p:nvPr/>
        </p:nvGrpSpPr>
        <p:grpSpPr>
          <a:xfrm>
            <a:off x="2638440" y="2452680"/>
            <a:ext cx="3505320" cy="3276720"/>
            <a:chOff x="2638440" y="2452680"/>
            <a:chExt cx="3505320" cy="3276720"/>
          </a:xfrm>
        </p:grpSpPr>
        <p:sp>
          <p:nvSpPr>
            <p:cNvPr id="66" name="Rectangle 26"/>
            <p:cNvSpPr/>
            <p:nvPr/>
          </p:nvSpPr>
          <p:spPr>
            <a:xfrm>
              <a:off x="2638440" y="2452680"/>
              <a:ext cx="3505320" cy="327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5-Point Star 27"/>
            <p:cNvSpPr/>
            <p:nvPr/>
          </p:nvSpPr>
          <p:spPr>
            <a:xfrm>
              <a:off x="2943000" y="2643120"/>
              <a:ext cx="2895840" cy="2926080"/>
            </a:xfrm>
            <a:custGeom>
              <a:avLst/>
              <a:gdLst/>
              <a:ahLst/>
              <a:rect l="l" t="t" r="r" b="b"/>
              <a:pathLst>
                <a:path w="2895600" h="2925762">
                  <a:moveTo>
                    <a:pt x="3" y="1117539"/>
                  </a:moveTo>
                  <a:lnTo>
                    <a:pt x="1106027" y="1117547"/>
                  </a:lnTo>
                  <a:lnTo>
                    <a:pt x="1447800" y="0"/>
                  </a:lnTo>
                  <a:lnTo>
                    <a:pt x="1789573" y="1117547"/>
                  </a:lnTo>
                  <a:lnTo>
                    <a:pt x="2895597" y="1117539"/>
                  </a:lnTo>
                  <a:lnTo>
                    <a:pt x="2000801" y="1808213"/>
                  </a:lnTo>
                  <a:lnTo>
                    <a:pt x="2342588" y="2925755"/>
                  </a:lnTo>
                  <a:lnTo>
                    <a:pt x="1447800" y="2235068"/>
                  </a:lnTo>
                  <a:lnTo>
                    <a:pt x="553012" y="2925755"/>
                  </a:lnTo>
                  <a:lnTo>
                    <a:pt x="894799" y="1808213"/>
                  </a:lnTo>
                  <a:lnTo>
                    <a:pt x="3" y="1117539"/>
                  </a:lnTo>
                  <a:close/>
                </a:path>
              </a:pathLst>
            </a:custGeom>
            <a:solidFill>
              <a:srgbClr val="0000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68" name="Group 28"/>
          <p:cNvGrpSpPr/>
          <p:nvPr/>
        </p:nvGrpSpPr>
        <p:grpSpPr>
          <a:xfrm>
            <a:off x="2666880" y="2514600"/>
            <a:ext cx="3505320" cy="3276720"/>
            <a:chOff x="2666880" y="2514600"/>
            <a:chExt cx="3505320" cy="3276720"/>
          </a:xfrm>
        </p:grpSpPr>
        <p:sp>
          <p:nvSpPr>
            <p:cNvPr id="69" name="Rectangle 29"/>
            <p:cNvSpPr/>
            <p:nvPr/>
          </p:nvSpPr>
          <p:spPr>
            <a:xfrm>
              <a:off x="2666880" y="2514600"/>
              <a:ext cx="3505320" cy="327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5-Point Star 30"/>
            <p:cNvSpPr/>
            <p:nvPr/>
          </p:nvSpPr>
          <p:spPr>
            <a:xfrm>
              <a:off x="2971440" y="2705040"/>
              <a:ext cx="2895840" cy="2926080"/>
            </a:xfrm>
            <a:custGeom>
              <a:avLst/>
              <a:gdLst/>
              <a:ahLst/>
              <a:rect l="l" t="t" r="r" b="b"/>
              <a:pathLst>
                <a:path w="2895600" h="2925763">
                  <a:moveTo>
                    <a:pt x="3" y="1117539"/>
                  </a:moveTo>
                  <a:lnTo>
                    <a:pt x="1106027" y="1117547"/>
                  </a:lnTo>
                  <a:lnTo>
                    <a:pt x="1447800" y="0"/>
                  </a:lnTo>
                  <a:lnTo>
                    <a:pt x="1789573" y="1117547"/>
                  </a:lnTo>
                  <a:lnTo>
                    <a:pt x="2895597" y="1117539"/>
                  </a:lnTo>
                  <a:lnTo>
                    <a:pt x="2000801" y="1808213"/>
                  </a:lnTo>
                  <a:lnTo>
                    <a:pt x="2342588" y="2925756"/>
                  </a:lnTo>
                  <a:lnTo>
                    <a:pt x="1447800" y="2235069"/>
                  </a:lnTo>
                  <a:lnTo>
                    <a:pt x="553012" y="2925756"/>
                  </a:lnTo>
                  <a:lnTo>
                    <a:pt x="894799" y="1808213"/>
                  </a:lnTo>
                  <a:lnTo>
                    <a:pt x="3" y="1117539"/>
                  </a:lnTo>
                  <a:close/>
                </a:path>
              </a:pathLst>
            </a:custGeom>
            <a:solidFill>
              <a:srgbClr val="0000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71" name="Group 31"/>
          <p:cNvGrpSpPr/>
          <p:nvPr/>
        </p:nvGrpSpPr>
        <p:grpSpPr>
          <a:xfrm>
            <a:off x="2666880" y="2362320"/>
            <a:ext cx="3505320" cy="3276360"/>
            <a:chOff x="2666880" y="2362320"/>
            <a:chExt cx="3505320" cy="3276360"/>
          </a:xfrm>
        </p:grpSpPr>
        <p:sp>
          <p:nvSpPr>
            <p:cNvPr id="72" name="Rectangle 32"/>
            <p:cNvSpPr/>
            <p:nvPr/>
          </p:nvSpPr>
          <p:spPr>
            <a:xfrm>
              <a:off x="2666880" y="2362320"/>
              <a:ext cx="3505320" cy="32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5-Point Star 33"/>
            <p:cNvSpPr/>
            <p:nvPr/>
          </p:nvSpPr>
          <p:spPr>
            <a:xfrm>
              <a:off x="2971440" y="2552760"/>
              <a:ext cx="2895840" cy="2925720"/>
            </a:xfrm>
            <a:custGeom>
              <a:avLst/>
              <a:gdLst/>
              <a:ahLst/>
              <a:rect l="l" t="t" r="r" b="b"/>
              <a:pathLst>
                <a:path w="2895600" h="2925763">
                  <a:moveTo>
                    <a:pt x="3" y="1117539"/>
                  </a:moveTo>
                  <a:lnTo>
                    <a:pt x="1106027" y="1117547"/>
                  </a:lnTo>
                  <a:lnTo>
                    <a:pt x="1447800" y="0"/>
                  </a:lnTo>
                  <a:lnTo>
                    <a:pt x="1789573" y="1117547"/>
                  </a:lnTo>
                  <a:lnTo>
                    <a:pt x="2895597" y="1117539"/>
                  </a:lnTo>
                  <a:lnTo>
                    <a:pt x="2000801" y="1808213"/>
                  </a:lnTo>
                  <a:lnTo>
                    <a:pt x="2342588" y="2925756"/>
                  </a:lnTo>
                  <a:lnTo>
                    <a:pt x="1447800" y="2235069"/>
                  </a:lnTo>
                  <a:lnTo>
                    <a:pt x="553012" y="2925756"/>
                  </a:lnTo>
                  <a:lnTo>
                    <a:pt x="894799" y="1808213"/>
                  </a:lnTo>
                  <a:lnTo>
                    <a:pt x="3" y="1117539"/>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74" name="Group 34"/>
          <p:cNvGrpSpPr/>
          <p:nvPr/>
        </p:nvGrpSpPr>
        <p:grpSpPr>
          <a:xfrm>
            <a:off x="2778120" y="2403360"/>
            <a:ext cx="3505320" cy="3505320"/>
            <a:chOff x="2778120" y="2403360"/>
            <a:chExt cx="3505320" cy="3505320"/>
          </a:xfrm>
        </p:grpSpPr>
        <p:sp>
          <p:nvSpPr>
            <p:cNvPr id="75" name="Rectangle 35"/>
            <p:cNvSpPr/>
            <p:nvPr/>
          </p:nvSpPr>
          <p:spPr>
            <a:xfrm>
              <a:off x="2778120" y="2403360"/>
              <a:ext cx="3505320" cy="350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Heart 36"/>
            <p:cNvSpPr/>
            <p:nvPr/>
          </p:nvSpPr>
          <p:spPr>
            <a:xfrm>
              <a:off x="3178080" y="2631960"/>
              <a:ext cx="2972160" cy="3048120"/>
            </a:xfrm>
            <a:custGeom>
              <a:avLst/>
              <a:gdLst/>
              <a:ahLst/>
              <a:rect l="l" t="t" r="r" b="b"/>
              <a:pathLst>
                <a:path w="2971800" h="3048000">
                  <a:moveTo>
                    <a:pt x="1485900" y="762000"/>
                  </a:moveTo>
                  <a:cubicBezTo>
                    <a:pt x="2105025" y="-1016000"/>
                    <a:pt x="4519613" y="762000"/>
                    <a:pt x="1485900" y="3048000"/>
                  </a:cubicBezTo>
                  <a:cubicBezTo>
                    <a:pt x="-1547813" y="762000"/>
                    <a:pt x="866775" y="-1016000"/>
                    <a:pt x="1485900" y="762000"/>
                  </a:cubicBez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77" name="Group 37"/>
          <p:cNvGrpSpPr/>
          <p:nvPr/>
        </p:nvGrpSpPr>
        <p:grpSpPr>
          <a:xfrm>
            <a:off x="2743200" y="2465280"/>
            <a:ext cx="3505320" cy="3276720"/>
            <a:chOff x="2743200" y="2465280"/>
            <a:chExt cx="3505320" cy="3276720"/>
          </a:xfrm>
        </p:grpSpPr>
        <p:sp>
          <p:nvSpPr>
            <p:cNvPr id="78" name="Rectangle 38"/>
            <p:cNvSpPr/>
            <p:nvPr/>
          </p:nvSpPr>
          <p:spPr>
            <a:xfrm>
              <a:off x="2743200" y="2465280"/>
              <a:ext cx="3505320" cy="327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5-Point Star 39"/>
            <p:cNvSpPr/>
            <p:nvPr/>
          </p:nvSpPr>
          <p:spPr>
            <a:xfrm>
              <a:off x="3047760" y="2655720"/>
              <a:ext cx="2895840" cy="2926080"/>
            </a:xfrm>
            <a:custGeom>
              <a:avLst/>
              <a:gdLst/>
              <a:ahLst/>
              <a:rect l="l" t="t" r="r" b="b"/>
              <a:pathLst>
                <a:path w="2895600" h="2925762">
                  <a:moveTo>
                    <a:pt x="3" y="1117539"/>
                  </a:moveTo>
                  <a:lnTo>
                    <a:pt x="1106027" y="1117547"/>
                  </a:lnTo>
                  <a:lnTo>
                    <a:pt x="1447800" y="0"/>
                  </a:lnTo>
                  <a:lnTo>
                    <a:pt x="1789573" y="1117547"/>
                  </a:lnTo>
                  <a:lnTo>
                    <a:pt x="2895597" y="1117539"/>
                  </a:lnTo>
                  <a:lnTo>
                    <a:pt x="2000801" y="1808213"/>
                  </a:lnTo>
                  <a:lnTo>
                    <a:pt x="2342588" y="2925755"/>
                  </a:lnTo>
                  <a:lnTo>
                    <a:pt x="1447800" y="2235068"/>
                  </a:lnTo>
                  <a:lnTo>
                    <a:pt x="553012" y="2925755"/>
                  </a:lnTo>
                  <a:lnTo>
                    <a:pt x="894799" y="1808213"/>
                  </a:lnTo>
                  <a:lnTo>
                    <a:pt x="3" y="1117539"/>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80" name="Group 40"/>
          <p:cNvGrpSpPr/>
          <p:nvPr/>
        </p:nvGrpSpPr>
        <p:grpSpPr>
          <a:xfrm>
            <a:off x="2805120" y="2552760"/>
            <a:ext cx="3505320" cy="3505320"/>
            <a:chOff x="2805120" y="2552760"/>
            <a:chExt cx="3505320" cy="3505320"/>
          </a:xfrm>
        </p:grpSpPr>
        <p:sp>
          <p:nvSpPr>
            <p:cNvPr id="81" name="Rectangle 41"/>
            <p:cNvSpPr/>
            <p:nvPr/>
          </p:nvSpPr>
          <p:spPr>
            <a:xfrm>
              <a:off x="2805120" y="2552760"/>
              <a:ext cx="3505320" cy="350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Heart 42"/>
            <p:cNvSpPr/>
            <p:nvPr/>
          </p:nvSpPr>
          <p:spPr>
            <a:xfrm>
              <a:off x="3205080" y="2781360"/>
              <a:ext cx="2972160" cy="3048120"/>
            </a:xfrm>
            <a:custGeom>
              <a:avLst/>
              <a:gdLst/>
              <a:ahLst/>
              <a:rect l="l" t="t" r="r" b="b"/>
              <a:pathLst>
                <a:path w="2971800" h="3048000">
                  <a:moveTo>
                    <a:pt x="1485900" y="762000"/>
                  </a:moveTo>
                  <a:cubicBezTo>
                    <a:pt x="2105025" y="-1016000"/>
                    <a:pt x="4519613" y="762000"/>
                    <a:pt x="1485900" y="3048000"/>
                  </a:cubicBezTo>
                  <a:cubicBezTo>
                    <a:pt x="-1547813" y="762000"/>
                    <a:pt x="866775" y="-1016000"/>
                    <a:pt x="1485900" y="762000"/>
                  </a:cubicBezTo>
                  <a:close/>
                </a:path>
              </a:pathLst>
            </a:custGeom>
            <a:solidFill>
              <a:srgbClr val="0000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2"/>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8"/>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7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74"/>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7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6635880"/>
                <a:tab algn="l" pos="7315200"/>
                <a:tab algn="l" pos="8229600"/>
                <a:tab algn="l" pos="9144000"/>
                <a:tab algn="l" pos="10058400"/>
              </a:tabLst>
            </a:pPr>
            <a:r>
              <a:rPr b="0" lang="en-HK" sz="3200" spc="-1" strike="noStrike">
                <a:solidFill>
                  <a:srgbClr val="000000"/>
                </a:solidFill>
                <a:latin typeface="Calibri"/>
              </a:rPr>
              <a:t>RED</a:t>
            </a:r>
            <a:r>
              <a:rPr b="0" lang="en-HK" sz="3200" spc="-1" strike="noStrike">
                <a:solidFill>
                  <a:srgbClr val="000000"/>
                </a:solidFill>
                <a:latin typeface="Calibri"/>
              </a:rPr>
              <a:t>	</a:t>
            </a:r>
            <a:r>
              <a:rPr b="0" lang="en-HK" sz="3200" spc="-1" strike="noStrike">
                <a:solidFill>
                  <a:srgbClr val="000000"/>
                </a:solidFill>
                <a:latin typeface="Calibri"/>
              </a:rPr>
              <a:t>BLUE</a:t>
            </a:r>
            <a:endParaRPr b="0" lang="en-US" sz="3200" spc="-1" strike="noStrike">
              <a:solidFill>
                <a:srgbClr val="000000"/>
              </a:solidFill>
              <a:latin typeface="Calibri"/>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4400" spc="-1" strike="noStrike">
                <a:solidFill>
                  <a:srgbClr val="000000"/>
                </a:solidFill>
                <a:latin typeface="Calibri"/>
              </a:rPr>
              <a:t>Dimension Change Card Sort</a:t>
            </a:r>
            <a:endParaRPr b="0" lang="en-US" sz="44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5222-88C6-4A4F-8C3C-EDD9EF1119A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grpSp>
        <p:nvGrpSpPr>
          <p:cNvPr id="86" name="Group 8"/>
          <p:cNvGrpSpPr/>
          <p:nvPr/>
        </p:nvGrpSpPr>
        <p:grpSpPr>
          <a:xfrm>
            <a:off x="3200400" y="2514600"/>
            <a:ext cx="2971800" cy="2971800"/>
            <a:chOff x="3200400" y="2514600"/>
            <a:chExt cx="2971800" cy="2971800"/>
          </a:xfrm>
        </p:grpSpPr>
        <p:sp>
          <p:nvSpPr>
            <p:cNvPr id="87" name="Rectangle 7"/>
            <p:cNvSpPr/>
            <p:nvPr/>
          </p:nvSpPr>
          <p:spPr>
            <a:xfrm>
              <a:off x="3200400" y="2514600"/>
              <a:ext cx="2971800" cy="2971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5-Point Star 4"/>
            <p:cNvSpPr/>
            <p:nvPr/>
          </p:nvSpPr>
          <p:spPr>
            <a:xfrm>
              <a:off x="3200400" y="2514600"/>
              <a:ext cx="2971800" cy="2971800"/>
            </a:xfrm>
            <a:custGeom>
              <a:avLst/>
              <a:gdLst/>
              <a:ahLst/>
              <a:rect l="l" t="t" r="r" b="b"/>
              <a:pathLst>
                <a:path w="2971800" h="2971800">
                  <a:moveTo>
                    <a:pt x="3" y="1135124"/>
                  </a:moveTo>
                  <a:lnTo>
                    <a:pt x="1135133" y="1135132"/>
                  </a:lnTo>
                  <a:lnTo>
                    <a:pt x="1485900" y="0"/>
                  </a:lnTo>
                  <a:lnTo>
                    <a:pt x="1836667" y="1135132"/>
                  </a:lnTo>
                  <a:lnTo>
                    <a:pt x="2971797" y="1135124"/>
                  </a:lnTo>
                  <a:lnTo>
                    <a:pt x="2053453" y="1836666"/>
                  </a:lnTo>
                  <a:lnTo>
                    <a:pt x="2404235" y="2971792"/>
                  </a:lnTo>
                  <a:lnTo>
                    <a:pt x="1485900" y="2270238"/>
                  </a:lnTo>
                  <a:lnTo>
                    <a:pt x="567565" y="2971792"/>
                  </a:lnTo>
                  <a:lnTo>
                    <a:pt x="918347" y="1836666"/>
                  </a:lnTo>
                  <a:lnTo>
                    <a:pt x="3" y="1135124"/>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89" name="Group 12"/>
          <p:cNvGrpSpPr/>
          <p:nvPr/>
        </p:nvGrpSpPr>
        <p:grpSpPr>
          <a:xfrm>
            <a:off x="2743200" y="2378160"/>
            <a:ext cx="3505320" cy="3504960"/>
            <a:chOff x="2743200" y="2378160"/>
            <a:chExt cx="3505320" cy="3504960"/>
          </a:xfrm>
        </p:grpSpPr>
        <p:sp>
          <p:nvSpPr>
            <p:cNvPr id="90" name="Rectangle 10"/>
            <p:cNvSpPr/>
            <p:nvPr/>
          </p:nvSpPr>
          <p:spPr>
            <a:xfrm>
              <a:off x="2743200" y="2378160"/>
              <a:ext cx="3505320" cy="3504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Heart 11"/>
            <p:cNvSpPr/>
            <p:nvPr/>
          </p:nvSpPr>
          <p:spPr>
            <a:xfrm>
              <a:off x="3143160" y="2606760"/>
              <a:ext cx="2972160" cy="3047760"/>
            </a:xfrm>
            <a:custGeom>
              <a:avLst/>
              <a:gdLst/>
              <a:ahLst/>
              <a:rect l="l" t="t" r="r" b="b"/>
              <a:pathLst>
                <a:path w="2971800" h="3048000">
                  <a:moveTo>
                    <a:pt x="1485900" y="762000"/>
                  </a:moveTo>
                  <a:cubicBezTo>
                    <a:pt x="2105025" y="-1016000"/>
                    <a:pt x="4519613" y="762000"/>
                    <a:pt x="1485900" y="3048000"/>
                  </a:cubicBezTo>
                  <a:cubicBezTo>
                    <a:pt x="-1547813" y="762000"/>
                    <a:pt x="866775" y="-1016000"/>
                    <a:pt x="1485900" y="762000"/>
                  </a:cubicBez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92" name="Group 16"/>
          <p:cNvGrpSpPr/>
          <p:nvPr/>
        </p:nvGrpSpPr>
        <p:grpSpPr>
          <a:xfrm>
            <a:off x="2666880" y="2438280"/>
            <a:ext cx="3505320" cy="3276720"/>
            <a:chOff x="2666880" y="2438280"/>
            <a:chExt cx="3505320" cy="3276720"/>
          </a:xfrm>
        </p:grpSpPr>
        <p:sp>
          <p:nvSpPr>
            <p:cNvPr id="93" name="Rectangle 17"/>
            <p:cNvSpPr/>
            <p:nvPr/>
          </p:nvSpPr>
          <p:spPr>
            <a:xfrm>
              <a:off x="2666880" y="2438280"/>
              <a:ext cx="3505320" cy="327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5-Point Star 18"/>
            <p:cNvSpPr/>
            <p:nvPr/>
          </p:nvSpPr>
          <p:spPr>
            <a:xfrm>
              <a:off x="2971440" y="2628720"/>
              <a:ext cx="2895840" cy="2926080"/>
            </a:xfrm>
            <a:custGeom>
              <a:avLst/>
              <a:gdLst/>
              <a:ahLst/>
              <a:rect l="l" t="t" r="r" b="b"/>
              <a:pathLst>
                <a:path w="2895600" h="2925763">
                  <a:moveTo>
                    <a:pt x="3" y="1117539"/>
                  </a:moveTo>
                  <a:lnTo>
                    <a:pt x="1106027" y="1117547"/>
                  </a:lnTo>
                  <a:lnTo>
                    <a:pt x="1447800" y="0"/>
                  </a:lnTo>
                  <a:lnTo>
                    <a:pt x="1789573" y="1117547"/>
                  </a:lnTo>
                  <a:lnTo>
                    <a:pt x="2895597" y="1117539"/>
                  </a:lnTo>
                  <a:lnTo>
                    <a:pt x="2000801" y="1808213"/>
                  </a:lnTo>
                  <a:lnTo>
                    <a:pt x="2342588" y="2925756"/>
                  </a:lnTo>
                  <a:lnTo>
                    <a:pt x="1447800" y="2235069"/>
                  </a:lnTo>
                  <a:lnTo>
                    <a:pt x="553012" y="2925756"/>
                  </a:lnTo>
                  <a:lnTo>
                    <a:pt x="894799" y="1808213"/>
                  </a:lnTo>
                  <a:lnTo>
                    <a:pt x="3" y="1117539"/>
                  </a:lnTo>
                  <a:close/>
                </a:path>
              </a:pathLst>
            </a:custGeom>
            <a:solidFill>
              <a:srgbClr val="0000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95" name="Group 19"/>
          <p:cNvGrpSpPr/>
          <p:nvPr/>
        </p:nvGrpSpPr>
        <p:grpSpPr>
          <a:xfrm>
            <a:off x="2638440" y="2460600"/>
            <a:ext cx="3505320" cy="3505320"/>
            <a:chOff x="2638440" y="2460600"/>
            <a:chExt cx="3505320" cy="3505320"/>
          </a:xfrm>
        </p:grpSpPr>
        <p:sp>
          <p:nvSpPr>
            <p:cNvPr id="96" name="Rectangle 20"/>
            <p:cNvSpPr/>
            <p:nvPr/>
          </p:nvSpPr>
          <p:spPr>
            <a:xfrm>
              <a:off x="2638440" y="2460600"/>
              <a:ext cx="3505320" cy="350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Heart 21"/>
            <p:cNvSpPr/>
            <p:nvPr/>
          </p:nvSpPr>
          <p:spPr>
            <a:xfrm>
              <a:off x="3038400" y="2689200"/>
              <a:ext cx="2972160" cy="3048120"/>
            </a:xfrm>
            <a:custGeom>
              <a:avLst/>
              <a:gdLst/>
              <a:ahLst/>
              <a:rect l="l" t="t" r="r" b="b"/>
              <a:pathLst>
                <a:path w="2971800" h="3048000">
                  <a:moveTo>
                    <a:pt x="1485900" y="762000"/>
                  </a:moveTo>
                  <a:cubicBezTo>
                    <a:pt x="2105025" y="-1016000"/>
                    <a:pt x="4519613" y="762000"/>
                    <a:pt x="1485900" y="3048000"/>
                  </a:cubicBezTo>
                  <a:cubicBezTo>
                    <a:pt x="-1547813" y="762000"/>
                    <a:pt x="866775" y="-1016000"/>
                    <a:pt x="1485900" y="762000"/>
                  </a:cubicBezTo>
                  <a:close/>
                </a:path>
              </a:pathLst>
            </a:custGeom>
            <a:solidFill>
              <a:srgbClr val="0000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98" name="Group 22"/>
          <p:cNvGrpSpPr/>
          <p:nvPr/>
        </p:nvGrpSpPr>
        <p:grpSpPr>
          <a:xfrm>
            <a:off x="2562120" y="2378160"/>
            <a:ext cx="3505320" cy="3504960"/>
            <a:chOff x="2562120" y="2378160"/>
            <a:chExt cx="3505320" cy="3504960"/>
          </a:xfrm>
        </p:grpSpPr>
        <p:sp>
          <p:nvSpPr>
            <p:cNvPr id="99" name="Rectangle 23"/>
            <p:cNvSpPr/>
            <p:nvPr/>
          </p:nvSpPr>
          <p:spPr>
            <a:xfrm>
              <a:off x="2562120" y="2378160"/>
              <a:ext cx="3505320" cy="3504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Heart 24"/>
            <p:cNvSpPr/>
            <p:nvPr/>
          </p:nvSpPr>
          <p:spPr>
            <a:xfrm>
              <a:off x="2962080" y="2606760"/>
              <a:ext cx="2972160" cy="3047760"/>
            </a:xfrm>
            <a:custGeom>
              <a:avLst/>
              <a:gdLst/>
              <a:ahLst/>
              <a:rect l="l" t="t" r="r" b="b"/>
              <a:pathLst>
                <a:path w="2971800" h="3048000">
                  <a:moveTo>
                    <a:pt x="1485900" y="762000"/>
                  </a:moveTo>
                  <a:cubicBezTo>
                    <a:pt x="2105025" y="-1016000"/>
                    <a:pt x="4519613" y="762000"/>
                    <a:pt x="1485900" y="3048000"/>
                  </a:cubicBezTo>
                  <a:cubicBezTo>
                    <a:pt x="-1547813" y="762000"/>
                    <a:pt x="866775" y="-1016000"/>
                    <a:pt x="1485900" y="762000"/>
                  </a:cubicBez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01" name="Group 25"/>
          <p:cNvGrpSpPr/>
          <p:nvPr/>
        </p:nvGrpSpPr>
        <p:grpSpPr>
          <a:xfrm>
            <a:off x="2638440" y="2452680"/>
            <a:ext cx="3505320" cy="3276720"/>
            <a:chOff x="2638440" y="2452680"/>
            <a:chExt cx="3505320" cy="3276720"/>
          </a:xfrm>
        </p:grpSpPr>
        <p:sp>
          <p:nvSpPr>
            <p:cNvPr id="102" name="Rectangle 26"/>
            <p:cNvSpPr/>
            <p:nvPr/>
          </p:nvSpPr>
          <p:spPr>
            <a:xfrm>
              <a:off x="2638440" y="2452680"/>
              <a:ext cx="3505320" cy="327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5-Point Star 27"/>
            <p:cNvSpPr/>
            <p:nvPr/>
          </p:nvSpPr>
          <p:spPr>
            <a:xfrm>
              <a:off x="2943000" y="2643120"/>
              <a:ext cx="2895840" cy="2926080"/>
            </a:xfrm>
            <a:custGeom>
              <a:avLst/>
              <a:gdLst/>
              <a:ahLst/>
              <a:rect l="l" t="t" r="r" b="b"/>
              <a:pathLst>
                <a:path w="2895600" h="2925762">
                  <a:moveTo>
                    <a:pt x="3" y="1117539"/>
                  </a:moveTo>
                  <a:lnTo>
                    <a:pt x="1106027" y="1117547"/>
                  </a:lnTo>
                  <a:lnTo>
                    <a:pt x="1447800" y="0"/>
                  </a:lnTo>
                  <a:lnTo>
                    <a:pt x="1789573" y="1117547"/>
                  </a:lnTo>
                  <a:lnTo>
                    <a:pt x="2895597" y="1117539"/>
                  </a:lnTo>
                  <a:lnTo>
                    <a:pt x="2000801" y="1808213"/>
                  </a:lnTo>
                  <a:lnTo>
                    <a:pt x="2342588" y="2925755"/>
                  </a:lnTo>
                  <a:lnTo>
                    <a:pt x="1447800" y="2235068"/>
                  </a:lnTo>
                  <a:lnTo>
                    <a:pt x="553012" y="2925755"/>
                  </a:lnTo>
                  <a:lnTo>
                    <a:pt x="894799" y="1808213"/>
                  </a:lnTo>
                  <a:lnTo>
                    <a:pt x="3" y="1117539"/>
                  </a:lnTo>
                  <a:close/>
                </a:path>
              </a:pathLst>
            </a:custGeom>
            <a:solidFill>
              <a:srgbClr val="0000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04" name="Group 28"/>
          <p:cNvGrpSpPr/>
          <p:nvPr/>
        </p:nvGrpSpPr>
        <p:grpSpPr>
          <a:xfrm>
            <a:off x="2666880" y="2514600"/>
            <a:ext cx="3505320" cy="3276720"/>
            <a:chOff x="2666880" y="2514600"/>
            <a:chExt cx="3505320" cy="3276720"/>
          </a:xfrm>
        </p:grpSpPr>
        <p:sp>
          <p:nvSpPr>
            <p:cNvPr id="105" name="Rectangle 29"/>
            <p:cNvSpPr/>
            <p:nvPr/>
          </p:nvSpPr>
          <p:spPr>
            <a:xfrm>
              <a:off x="2666880" y="2514600"/>
              <a:ext cx="3505320" cy="327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5-Point Star 30"/>
            <p:cNvSpPr/>
            <p:nvPr/>
          </p:nvSpPr>
          <p:spPr>
            <a:xfrm>
              <a:off x="2971440" y="2705040"/>
              <a:ext cx="2895840" cy="2926080"/>
            </a:xfrm>
            <a:custGeom>
              <a:avLst/>
              <a:gdLst/>
              <a:ahLst/>
              <a:rect l="l" t="t" r="r" b="b"/>
              <a:pathLst>
                <a:path w="2895600" h="2925763">
                  <a:moveTo>
                    <a:pt x="3" y="1117539"/>
                  </a:moveTo>
                  <a:lnTo>
                    <a:pt x="1106027" y="1117547"/>
                  </a:lnTo>
                  <a:lnTo>
                    <a:pt x="1447800" y="0"/>
                  </a:lnTo>
                  <a:lnTo>
                    <a:pt x="1789573" y="1117547"/>
                  </a:lnTo>
                  <a:lnTo>
                    <a:pt x="2895597" y="1117539"/>
                  </a:lnTo>
                  <a:lnTo>
                    <a:pt x="2000801" y="1808213"/>
                  </a:lnTo>
                  <a:lnTo>
                    <a:pt x="2342588" y="2925756"/>
                  </a:lnTo>
                  <a:lnTo>
                    <a:pt x="1447800" y="2235069"/>
                  </a:lnTo>
                  <a:lnTo>
                    <a:pt x="553012" y="2925756"/>
                  </a:lnTo>
                  <a:lnTo>
                    <a:pt x="894799" y="1808213"/>
                  </a:lnTo>
                  <a:lnTo>
                    <a:pt x="3" y="1117539"/>
                  </a:lnTo>
                  <a:close/>
                </a:path>
              </a:pathLst>
            </a:custGeom>
            <a:solidFill>
              <a:srgbClr val="0000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07" name="Group 31"/>
          <p:cNvGrpSpPr/>
          <p:nvPr/>
        </p:nvGrpSpPr>
        <p:grpSpPr>
          <a:xfrm>
            <a:off x="2666880" y="2362320"/>
            <a:ext cx="3505320" cy="3276360"/>
            <a:chOff x="2666880" y="2362320"/>
            <a:chExt cx="3505320" cy="3276360"/>
          </a:xfrm>
        </p:grpSpPr>
        <p:sp>
          <p:nvSpPr>
            <p:cNvPr id="108" name="Rectangle 32"/>
            <p:cNvSpPr/>
            <p:nvPr/>
          </p:nvSpPr>
          <p:spPr>
            <a:xfrm>
              <a:off x="2666880" y="2362320"/>
              <a:ext cx="3505320" cy="32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5-Point Star 33"/>
            <p:cNvSpPr/>
            <p:nvPr/>
          </p:nvSpPr>
          <p:spPr>
            <a:xfrm>
              <a:off x="2971440" y="2552760"/>
              <a:ext cx="2895840" cy="2925720"/>
            </a:xfrm>
            <a:custGeom>
              <a:avLst/>
              <a:gdLst/>
              <a:ahLst/>
              <a:rect l="l" t="t" r="r" b="b"/>
              <a:pathLst>
                <a:path w="2895600" h="2925763">
                  <a:moveTo>
                    <a:pt x="3" y="1117539"/>
                  </a:moveTo>
                  <a:lnTo>
                    <a:pt x="1106027" y="1117547"/>
                  </a:lnTo>
                  <a:lnTo>
                    <a:pt x="1447800" y="0"/>
                  </a:lnTo>
                  <a:lnTo>
                    <a:pt x="1789573" y="1117547"/>
                  </a:lnTo>
                  <a:lnTo>
                    <a:pt x="2895597" y="1117539"/>
                  </a:lnTo>
                  <a:lnTo>
                    <a:pt x="2000801" y="1808213"/>
                  </a:lnTo>
                  <a:lnTo>
                    <a:pt x="2342588" y="2925756"/>
                  </a:lnTo>
                  <a:lnTo>
                    <a:pt x="1447800" y="2235069"/>
                  </a:lnTo>
                  <a:lnTo>
                    <a:pt x="553012" y="2925756"/>
                  </a:lnTo>
                  <a:lnTo>
                    <a:pt x="894799" y="1808213"/>
                  </a:lnTo>
                  <a:lnTo>
                    <a:pt x="3" y="1117539"/>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10" name="Group 34"/>
          <p:cNvGrpSpPr/>
          <p:nvPr/>
        </p:nvGrpSpPr>
        <p:grpSpPr>
          <a:xfrm>
            <a:off x="2778120" y="2403360"/>
            <a:ext cx="3505320" cy="3505320"/>
            <a:chOff x="2778120" y="2403360"/>
            <a:chExt cx="3505320" cy="3505320"/>
          </a:xfrm>
        </p:grpSpPr>
        <p:sp>
          <p:nvSpPr>
            <p:cNvPr id="111" name="Rectangle 35"/>
            <p:cNvSpPr/>
            <p:nvPr/>
          </p:nvSpPr>
          <p:spPr>
            <a:xfrm>
              <a:off x="2778120" y="2403360"/>
              <a:ext cx="3505320" cy="350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Heart 36"/>
            <p:cNvSpPr/>
            <p:nvPr/>
          </p:nvSpPr>
          <p:spPr>
            <a:xfrm>
              <a:off x="3178080" y="2631960"/>
              <a:ext cx="2972160" cy="3048120"/>
            </a:xfrm>
            <a:custGeom>
              <a:avLst/>
              <a:gdLst/>
              <a:ahLst/>
              <a:rect l="l" t="t" r="r" b="b"/>
              <a:pathLst>
                <a:path w="2971800" h="3048000">
                  <a:moveTo>
                    <a:pt x="1485900" y="762000"/>
                  </a:moveTo>
                  <a:cubicBezTo>
                    <a:pt x="2105025" y="-1016000"/>
                    <a:pt x="4519613" y="762000"/>
                    <a:pt x="1485900" y="3048000"/>
                  </a:cubicBezTo>
                  <a:cubicBezTo>
                    <a:pt x="-1547813" y="762000"/>
                    <a:pt x="866775" y="-1016000"/>
                    <a:pt x="1485900" y="762000"/>
                  </a:cubicBez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13" name="Group 37"/>
          <p:cNvGrpSpPr/>
          <p:nvPr/>
        </p:nvGrpSpPr>
        <p:grpSpPr>
          <a:xfrm>
            <a:off x="2743200" y="2465280"/>
            <a:ext cx="3505320" cy="3276720"/>
            <a:chOff x="2743200" y="2465280"/>
            <a:chExt cx="3505320" cy="3276720"/>
          </a:xfrm>
        </p:grpSpPr>
        <p:sp>
          <p:nvSpPr>
            <p:cNvPr id="114" name="Rectangle 38"/>
            <p:cNvSpPr/>
            <p:nvPr/>
          </p:nvSpPr>
          <p:spPr>
            <a:xfrm>
              <a:off x="2743200" y="2465280"/>
              <a:ext cx="3505320" cy="327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5-Point Star 39"/>
            <p:cNvSpPr/>
            <p:nvPr/>
          </p:nvSpPr>
          <p:spPr>
            <a:xfrm>
              <a:off x="3047760" y="2655720"/>
              <a:ext cx="2895840" cy="2926080"/>
            </a:xfrm>
            <a:custGeom>
              <a:avLst/>
              <a:gdLst/>
              <a:ahLst/>
              <a:rect l="l" t="t" r="r" b="b"/>
              <a:pathLst>
                <a:path w="2895600" h="2925762">
                  <a:moveTo>
                    <a:pt x="3" y="1117539"/>
                  </a:moveTo>
                  <a:lnTo>
                    <a:pt x="1106027" y="1117547"/>
                  </a:lnTo>
                  <a:lnTo>
                    <a:pt x="1447800" y="0"/>
                  </a:lnTo>
                  <a:lnTo>
                    <a:pt x="1789573" y="1117547"/>
                  </a:lnTo>
                  <a:lnTo>
                    <a:pt x="2895597" y="1117539"/>
                  </a:lnTo>
                  <a:lnTo>
                    <a:pt x="2000801" y="1808213"/>
                  </a:lnTo>
                  <a:lnTo>
                    <a:pt x="2342588" y="2925755"/>
                  </a:lnTo>
                  <a:lnTo>
                    <a:pt x="1447800" y="2235068"/>
                  </a:lnTo>
                  <a:lnTo>
                    <a:pt x="553012" y="2925755"/>
                  </a:lnTo>
                  <a:lnTo>
                    <a:pt x="894799" y="1808213"/>
                  </a:lnTo>
                  <a:lnTo>
                    <a:pt x="3" y="1117539"/>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16" name="Group 40"/>
          <p:cNvGrpSpPr/>
          <p:nvPr/>
        </p:nvGrpSpPr>
        <p:grpSpPr>
          <a:xfrm>
            <a:off x="2805120" y="2552760"/>
            <a:ext cx="3505320" cy="3505320"/>
            <a:chOff x="2805120" y="2552760"/>
            <a:chExt cx="3505320" cy="3505320"/>
          </a:xfrm>
        </p:grpSpPr>
        <p:sp>
          <p:nvSpPr>
            <p:cNvPr id="117" name="Rectangle 41"/>
            <p:cNvSpPr/>
            <p:nvPr/>
          </p:nvSpPr>
          <p:spPr>
            <a:xfrm>
              <a:off x="2805120" y="2552760"/>
              <a:ext cx="3505320" cy="350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Heart 42"/>
            <p:cNvSpPr/>
            <p:nvPr/>
          </p:nvSpPr>
          <p:spPr>
            <a:xfrm>
              <a:off x="3205080" y="2781360"/>
              <a:ext cx="2972160" cy="3048120"/>
            </a:xfrm>
            <a:custGeom>
              <a:avLst/>
              <a:gdLst/>
              <a:ahLst/>
              <a:rect l="l" t="t" r="r" b="b"/>
              <a:pathLst>
                <a:path w="2971800" h="3048000">
                  <a:moveTo>
                    <a:pt x="1485900" y="762000"/>
                  </a:moveTo>
                  <a:cubicBezTo>
                    <a:pt x="2105025" y="-1016000"/>
                    <a:pt x="4519613" y="762000"/>
                    <a:pt x="1485900" y="3048000"/>
                  </a:cubicBezTo>
                  <a:cubicBezTo>
                    <a:pt x="-1547813" y="762000"/>
                    <a:pt x="866775" y="-1016000"/>
                    <a:pt x="1485900" y="762000"/>
                  </a:cubicBezTo>
                  <a:close/>
                </a:path>
              </a:pathLst>
            </a:custGeom>
            <a:solidFill>
              <a:srgbClr val="0000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86"/>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8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9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5"/>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98"/>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1"/>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04"/>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7"/>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10"/>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13"/>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03T10:15:24Z</dcterms:created>
  <dc:creator>lingadmin</dc:creator>
  <dc:description/>
  <dc:language>en-US</dc:language>
  <cp:lastModifiedBy>Stephen Politzer-Ahles</cp:lastModifiedBy>
  <dcterms:modified xsi:type="dcterms:W3CDTF">2020-02-12T04:24:50Z</dcterms:modified>
  <cp:revision>279</cp:revision>
  <dc:subject/>
  <dc:title>How does the brain understand what people mean (when they don't say it)?</dc:title>
</cp:coreProperties>
</file>