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2C8-C016-40D0-8BE7-BD6587EA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64E-EF4A-4440-82A5-4721032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C87-C4AD-4F60-8F3A-A6088DFA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18B-FD7D-4D68-BDB9-ADF17BA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87C-8AD8-411B-B21C-D68FA95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FB4-6BB4-4AAF-B037-57F7C515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A6D-3299-4C86-859D-31C904B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00E-7577-4EE5-BD28-650790C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B3E-77FC-4955-A745-46D61DB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A3C-C819-41A1-A996-961F940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151-F60B-41A9-A96F-CBE5394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F1D-441B-4978-BAF7-35046B0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4800-B0D4-42ED-BDE8-D3F192B7382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E441-9BD1-4976-A3A0-5114C80DB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HK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328-871A-4C61-801E-682A6A018B9C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Yesterday’s defeat was a big disappointment, but the athlete still has much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5C6-0F19-4479-871C-0641F560C319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ch screen, you will see a sentence. You must read each sentence OUT LO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 will automatically advance to the next screen. You have 6.5 seconds to read each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you’ve gone through several sentences, you will see the word “RECALL”. At this time, you should say out loud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st wo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very sentence you just read in the previous group of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225-34ED-45F8-AE79-3664E5A23A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Read each sentence out lo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When you see RECALL, remember the </a:t>
            </a:r>
            <a:r>
              <a:rPr b="0" i="1" lang="en-HK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last word</a:t>
            </a:r>
            <a:r>
              <a:rPr b="0" lang="en-HK" sz="3200" spc="-1" strike="noStrike">
                <a:solidFill>
                  <a:srgbClr val="000000"/>
                </a:solidFill>
                <a:latin typeface="Verdana"/>
                <a:ea typeface="新細明體"/>
              </a:rPr>
              <a:t> from each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BF1-3324-43D1-A8F6-88AF1621D7BF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6D54-3A74-42E9-B37F-9D6E95F2AA37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Of course it was expensive, but he was very happy with his beautiful new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FE9-929D-4126-BC7B-21872AA14C20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Five minutes before the end of the match, the referee gave the deciding penal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DBA8-8137-4924-97C8-7F1230D4FBE3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E0DB-6F4C-4594-9E43-C046698EDA61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he director was very popular until the employees heard about his af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F5F-05BF-4A37-A209-DF9C1AA60FB8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he weatherman expected a beautiful day, that’s why the rain came as a surpr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F1D-6052-4085-932E-D80D5B0ECE0E}" type="slidenum"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His lecture was very hard to understand because he always referred to the con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0:15:24Z</dcterms:created>
  <dc:creator>lingadmin</dc:creator>
  <dc:description/>
  <dc:language>en-US</dc:language>
  <cp:lastModifiedBy>Stephen Politzer-Ahles</cp:lastModifiedBy>
  <dcterms:modified xsi:type="dcterms:W3CDTF">2020-02-12T07:41:46Z</dcterms:modified>
  <cp:revision>271</cp:revision>
  <dc:subject/>
  <dc:title>How does the brain understand what people mean (when they don't say it)?</dc:title>
</cp:coreProperties>
</file>