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1CF-6487-45E9-8F3C-652665B3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033-33CE-4200-BBAC-818202C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BB2-404D-428B-8644-D3A74005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018-96E1-4E77-80A5-7210C8B0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429-0B6A-4BC5-8FE0-D95B077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76E-F5DC-447A-921E-49740FE8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ADE-7BFA-4484-B4FA-5D28E734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79E-D6C8-4692-B56B-6D8025E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1B7-2F1F-4475-AB44-CF948532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86C-87B7-48B5-A5B8-D2E3862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DEE-E4D2-4979-B76C-8A74AFB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EE2-C2F8-4FC7-AE7D-8D90B50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D16-BA06-4A64-BE2C-0499D66BBBB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9D08-FE22-4D94-AD1A-385CF0C3F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-back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other memory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different versions (1-back, 2-back, 3-back, etc.), which is why it’s called “N”-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see letters on the screen one at a time (timing handled by Powerpoint). If you saw the same lett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tters earlier, you should raise your hand (in a real experiment, you’d press a butt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6436-C8EA-4E71-83BC-47C74BDCA6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B70-F932-4126-B985-529B2D18ED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t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3E4-4CCD-467E-927A-92611A8130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 E H R X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U O M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 F E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068-B275-44DA-BCCA-D2ABAEF254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F29-D593-4A57-923D-98924D8B87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9AB-4B0C-4167-9947-33FF100A21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CFE-F466-4916-A654-35C82A7344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604-1DBF-41CB-B7D9-C76AFE2AF6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3094-C3B2-4001-AF40-0AA87A45C3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CE42-3FB8-4130-B5EC-BC09090304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540-70F0-41BB-8BC1-A5E05A0743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E78-E0C6-45A7-9A2C-6BD312CD14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841-C908-4FBE-A1AA-484C68F41B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-back task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during the 1-back task, you raise your hand if you saw the same letter 1 letter ear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if you saw the letters “A…R…G…B…B…R”, you would raise your hand on the second B that you see, since there was another B one letter befor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88CF-F196-41DD-ADAE-8F156E7577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193C-4035-42E5-8670-D6985ED2AF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4E22-2883-4365-B3B1-8442646D31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0CD-515F-4C13-B97D-B3CAC72C5E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444-A86E-43F4-8B82-3429EF5C4B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862-5F7B-4C17-AEC1-6E229F995A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D581-4532-43D6-87C3-5EA9C9DA40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t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B31-F013-4328-B847-2BA3E326AC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 S P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 F Q G 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774-A84F-40B2-AC74-FD85465597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bac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H T R E C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 Q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370-9FFF-4564-8BF9-131AA9EE30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7C08-6D04-4E16-8D90-E561575002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-back task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2-back task works the same way, but you raise your hand if you saw the same letter 2 letters ear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if you saw the letters “Z…Q…N…U…N…R”, you would raise your hand on the second N that you see, since there was another N one letter befor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logic for 3-back, 4-back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CFF-D528-479C-8B5B-7632410CD0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5F7-68C1-4773-A980-E5AD80FA3E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8333-D97B-47DC-AC01-1315707E92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CAEA-7182-472F-A9E9-1021E9B217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B1C-4FB7-448E-A51B-9C43E6F2BF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4B1D-C11E-4D28-AD68-F9918D521D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31C1-4D6A-4C2C-84D8-025DEBD1A4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2C71-C7B4-4000-A9C3-5D6BAF6CEB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31B-88C7-4ADC-817E-2DCD5BF3F9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749-2FA0-498D-B35B-4712D17FCF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0A9C-F03D-4C18-AC12-0DA48440C5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-back task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different ways it can be sc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slides have examples for 1-back, 2-back, and 3-back. For each one, there is first a slide showing an example of when you would raise your hand. The slides after that are the actual task, which you can present in powerpoint full-screen mode (the timing will proceed automatically). At the end of each task, a final slide shows the answers (which letters you should have raised your hand f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82B-484C-4823-B9BA-7DE6B1E259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AAF4-488F-4DCF-B617-5B6F8D1178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C12A-E11E-433D-BD3B-486A477D42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02C4-2F5E-4FD4-88C2-BDE6D0C9CF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453-BA3C-4177-B2F6-1F2D5DB8D7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636-A408-42E3-B4DF-0D2A681EB1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253-EAA5-47DF-8A5A-02ACC8F403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619-469E-4C1C-BF5D-D6C461B5C8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B65-6E04-4298-9580-B019C3FF55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3364-30F4-439C-9BD9-4D8D8C9386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3044-ED2F-4B30-95CA-F088A6AA88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bac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 J H I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 D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9496-9F80-4654-B0F0-B2FE2BD6DD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6EC-C57B-48EC-A8F4-65C11E84C0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55F2-F8B1-445B-A791-80BE282A73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D306-6F6A-4526-9D60-1DC9D41EDC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DBA-BFC6-4B83-A6C0-5DD8F0C16A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A925-374C-4B11-B2A5-9AB99F9EEB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D617-85B3-4479-8514-6C796E8670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FA10-E7ED-4D4E-B720-04A6F96171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866-1EE2-4BB0-8D72-EC552C6A18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F5BA-2273-44E5-877F-8FF0F79E59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007B-7E4D-4312-872B-2D3DDBA8CE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F155-0979-43B9-88BA-7CA83A72FB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1053-FDA7-4ACF-ADD5-BF896C1DAA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52C5-763E-48EB-ADF0-8A69650FB4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8DB1-509E-4A51-8243-CBD9BECEA3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t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A96-49CD-4EC1-80FD-98EE904ECF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 L D S O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J L K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V W A X H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9518-BF16-48D6-BBC0-2A142B3E0B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-bac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 D Q K L D Y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U E Z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33C0-83BE-43F2-A905-B0FF2B0588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31A-247E-43B5-A58E-47B007890A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FE7-F58C-4DAB-8FBD-1FC3DCED51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015-28DA-436C-840E-87B0789E4B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FFB-D990-4341-90F1-E4BC395A7A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376-3F7C-4EF2-BB14-B3B1BBB03B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4B5-8C62-40B6-B367-CBEBA5FB36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1CA-2BCC-4CC7-89A3-9307087E5E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E18-DA6F-4A96-B693-B7CCED5F68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70B4-99E6-41EF-AC59-66B45824AF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55B2-DB14-4756-B865-A42FDF0D5D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788-1FBB-4AAD-876C-661ECE2A88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4F06-732F-41B2-9AF1-2775068924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362-AE0C-45EF-93A3-CC974468F9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424-1CDC-409A-8F96-8D9BBCEDC7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61E-A215-4D55-921C-8576473FC4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43D-E560-4B6C-9A4D-D12155025A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5CB-C7B2-416E-BB05-87CC4CDF23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220-DC4D-4348-A7E2-3F06376D5C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21E0-4B2B-4E4A-ABB9-DAF3B37A19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72C-FD18-4DEE-91D5-C516F2A563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373-117A-427C-8971-F363C6269E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75DD-3E9F-4C2A-8540-E94FB8D888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739-905D-4A84-8B67-A3F20767FC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3D2-5E30-4E9A-8D0D-995C67D0B7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9AB-1ADD-4046-9C39-FC8A96D246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A19-10A3-4C67-BF7E-6D6632F388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D5E-A254-4C1A-A74E-0BC89EA30CE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F18-1EA7-45C7-89AF-1129FAE4F4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920-DA55-4A4A-A4FA-B878CA06B63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231-3CC5-420A-A254-3A8B0DBA59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CED-AF3C-4F34-BB20-EA38F4A692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158-670F-40A8-8C82-87A95E5B31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2504-BFC6-4109-8F52-9A492D0422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950-608F-4686-A488-1636FA9F1C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F4FD-6208-4A61-BFD1-2CF2BC90DE9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98CE-0883-4266-B5B4-D5AF2D4C92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00E4-49DC-44A7-AB58-2B1F5DB867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0:15:24Z</dcterms:created>
  <dc:creator>lingadmin</dc:creator>
  <dc:description/>
  <dc:language>en-US</dc:language>
  <cp:lastModifiedBy>Stephen Politzer-Ahles</cp:lastModifiedBy>
  <dcterms:modified xsi:type="dcterms:W3CDTF">2020-02-12T04:23:34Z</dcterms:modified>
  <cp:revision>279</cp:revision>
  <dc:subject/>
  <dc:title>How does the brain understand what people mean (when they don't say it)?</dc:title>
</cp:coreProperties>
</file>