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3C9-EBEC-48DE-A119-B069E756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E18-C1E2-4E73-BD94-C883738F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371-3DC2-4C28-B328-4E80C0D1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717-58CB-4709-B37F-30E59A12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82E-5FBB-4D9B-A536-A4E0AEC7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C8D-E9AB-4AC7-886C-43B52081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AF5-FB00-411D-ADD3-90EA01EE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73C-562E-4309-B33C-7ABDEF6B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020-AD47-489C-B505-7E6DE804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A89-1DB5-4FDC-97EB-FA362247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0F4-540C-4EF3-AF84-AE6B4570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562-6B5B-4C28-A6D2-18A48CE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11C8-20FF-4B06-B260-29FCFABD2AA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FD92-B8D1-48B1-99E6-4BEEC6427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4" descr=""/>
          <p:cNvPicPr/>
          <p:nvPr/>
        </p:nvPicPr>
        <p:blipFill>
          <a:blip r:embed="rId1"/>
          <a:stretch/>
        </p:blipFill>
        <p:spPr>
          <a:xfrm>
            <a:off x="3281400" y="2343240"/>
            <a:ext cx="2581200" cy="3039840"/>
          </a:xfrm>
          <a:prstGeom prst="rect">
            <a:avLst/>
          </a:prstGeom>
          <a:ln w="0">
            <a:noFill/>
          </a:ln>
        </p:spPr>
      </p:pic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80BB-072E-482C-83BA-C65BACEA76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895480" y="3886200"/>
            <a:ext cx="41148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7778 L 3.33333E-006 -0.32778 E">
                                      <p:cBhvr>
                                        <p:cTn id="6" dur="1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49CA-9DC7-4BDE-A7A4-B6DCEDC032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438280" y="2695680"/>
            <a:ext cx="426744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276720" y="281952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AE66-19FF-464C-B60A-BAB9291F5B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1989000" y="23623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B9DB-26E4-4DD2-BEDF-F88596AB8F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720880" y="1054080"/>
            <a:ext cx="370224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0:15:24Z</dcterms:created>
  <dc:creator>lingadmin</dc:creator>
  <dc:description/>
  <dc:language>en-US</dc:language>
  <cp:lastModifiedBy>Stephen Politzer-Ahles</cp:lastModifiedBy>
  <dcterms:modified xsi:type="dcterms:W3CDTF">2020-02-12T09:11:21Z</dcterms:modified>
  <cp:revision>271</cp:revision>
  <dc:subject/>
  <dc:title>How does the brain understand what people mean (when they don't say it)?</dc:title>
</cp:coreProperties>
</file>